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gif" ContentType="image/gi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C51-3664-4EC8-8807-79ECCB6F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E09-3407-4CF6-9CBA-CDD9B057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5E5-D610-429E-9FD2-ED16D1AC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34F-C188-4995-B192-EE28FAFB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7F9E-790D-44A6-A62E-57B2737D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D0AE-1E34-483B-AF98-ECE7B6CB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6AED-1FA8-4DE6-A18C-DBDCCBAF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0A85-0514-4693-95BC-4BB2BFC1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9045-1672-4550-A55E-30C6E4AB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742E-2FA0-49FF-89B3-751F3EBB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BE7B-3134-4B26-8E92-FA9B7AEB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B4F-2AF9-4C26-B54E-BD537D6D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2CBA-0869-48B1-946B-6855838D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2764-9FBC-4848-8978-BE54DA54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BAFC-F85B-49A1-8126-0B8F6BF5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F895-8539-4D66-9EE2-4990CEA1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1269-B1EB-40B8-B3CA-102F51A8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BDB-A742-4E8C-B48D-3F140473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FAD-465D-4F74-A44A-43B71CE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94D-0F17-4BCC-9CE9-4F97A4B0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706-B533-4C73-ACFB-B92A054F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159-7933-4B4F-B81D-D9693D13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DE0-15D9-4B1B-B9A2-553CDCEE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F6B-474D-4612-BDC5-676E6928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1E71-B35A-49D1-BE04-1C18648E4E5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A580-6BA6-4298-B7A3-26AD8F680F3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UNKAVÉDELE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ÉPERNYŐS MUNKAHELYEK ERGONÓMIÁ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MCj04326460000[1]"/>
          <p:cNvPicPr/>
          <p:nvPr/>
        </p:nvPicPr>
        <p:blipFill>
          <a:blip r:embed="rId2"/>
          <a:stretch/>
        </p:blipFill>
        <p:spPr>
          <a:xfrm>
            <a:off x="6516720" y="4365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rattart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4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zok  a felületek, melyekre gyakran tekintünk, közel azonos távolságban legyen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zemkifáradás (akkomodáció miatt), nyakizom fokozott igénybevéte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aptámasz legyen állíthat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ényelmes olvashatóságot biztosító helyzetben rögzíthető legy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8" descr="MCj04326050000[1]"/>
          <p:cNvPicPr/>
          <p:nvPr/>
        </p:nvPicPr>
        <p:blipFill>
          <a:blip r:embed="rId2"/>
          <a:stretch/>
        </p:blipFill>
        <p:spPr>
          <a:xfrm>
            <a:off x="5715000" y="3022560"/>
            <a:ext cx="17780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Mozgásté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galább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m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szabad terüle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biztosítása a munkahelyen történő szabad mozgásho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gyéb eszközök biztonságos megközelíté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MPj04308140000[1]"/>
          <p:cNvPicPr/>
          <p:nvPr/>
        </p:nvPicPr>
        <p:blipFill>
          <a:blip r:embed="rId2"/>
          <a:stretch/>
        </p:blipFill>
        <p:spPr>
          <a:xfrm>
            <a:off x="5000760" y="1752480"/>
            <a:ext cx="3206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Megvilág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ügg a természetes megvilágítástól, az irodahelyiségek méretétől, tevékenység típusátó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ínhőmérséklet (semleges vagy meleg legye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Árnyékhatás figyelembe véte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érbeli-időbeli egyenletessé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ükröződés mentessé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6" descr="MCj04099510000[1]"/>
          <p:cNvPicPr/>
          <p:nvPr/>
        </p:nvPicPr>
        <p:blipFill>
          <a:blip r:embed="rId2"/>
          <a:stretch/>
        </p:blipFill>
        <p:spPr>
          <a:xfrm>
            <a:off x="7093080" y="260280"/>
            <a:ext cx="1619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Verdana"/>
              </a:rPr>
              <a:t>Munkahelyi za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oncentráció csökkenés, idegrendszeri károsod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Határérték fokozott figyelmet igénylő  irodai munkánál 50 dB(A) hangnyomássz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6" descr="MCj01504670000[1]"/>
          <p:cNvPicPr/>
          <p:nvPr/>
        </p:nvPicPr>
        <p:blipFill>
          <a:blip r:embed="rId2"/>
          <a:stretch/>
        </p:blipFill>
        <p:spPr>
          <a:xfrm>
            <a:off x="5722920" y="3040200"/>
            <a:ext cx="176220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 u="sng">
                <a:solidFill>
                  <a:srgbClr val="000000"/>
                </a:solidFill>
                <a:uFillTx/>
                <a:latin typeface="Verdana"/>
              </a:rPr>
              <a:t>Klí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rodában ülve végzett szellemi munka előírásai érvényese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Hideg évszakban: 20-22 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leg évszakban: 21-24 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égsebesség: 0,1 m/s lehet maxim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MMj02889420000[1]"/>
          <p:cNvPicPr/>
          <p:nvPr/>
        </p:nvPicPr>
        <p:blipFill>
          <a:blip r:embed="rId2"/>
          <a:stretch/>
        </p:blipFill>
        <p:spPr>
          <a:xfrm>
            <a:off x="6877080" y="765000"/>
            <a:ext cx="12096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Sugárz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gyártói nyilatkozata tartalmaz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lenlegi kutatások szerint  a látható fénysugár kivételével a monitor sugárzása  a használó egészsége és biztonsága szempontjából elhanyagolhat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Szoftverergonómia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mber-gép kapcsol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rogramkialakítók felada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ép megjelenése pl. jelek mérete, távolsága, jelélesség, kontraszt, fényerő, képstabilitás, színmegjelenítés, villogásmentessé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 felhasználóbarát kialakítása: a felhasználó és a számítógép közötti párbeszéd hatékonysága azaz feladatra illeszthetőség, szabályozhatóság, elsajátíthatóság, hiba kijavíthatósá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nden betűt a magyar helyesírásnak megfelelő formátumban jelenítsen meg a képernyőn és nyomtatásb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ikus adatelhelyezés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" descr="MCj02816000000[1]"/>
          <p:cNvPicPr/>
          <p:nvPr/>
        </p:nvPicPr>
        <p:blipFill>
          <a:blip r:embed="rId2"/>
          <a:stretch/>
        </p:blipFill>
        <p:spPr>
          <a:xfrm>
            <a:off x="7164360" y="404640"/>
            <a:ext cx="1433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Szoftverergonómia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mber-gép kapcsol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leljen meg a feladatna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zámítógép-kezelő ismeret- és tapasztalatszintjéhez igazíthatósá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gyar nyelvű súg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unkavállaló teljesítményére vonatkozó mennyiségi vagy minőségi ellenőrzési lehetőséget nem szabad igénybe venni a dolgozók tudomása nélkü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rendszerek a képernyő előtt dolgozóhoz alkalmazkodó formátumban és ütemben jelezzék ki az információk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ogszabály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50/1999. (XI.3.) EüM rendelet a képernyő előtti munkavégzés minimális egészségügyi és biztonsági követelményeirő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3/2002. (II. 8.) SzCsm-Eüm együttes rendelet a munkahelyek munkavédelmi követelményeinek minimális szintjérő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MSZ EN 29241 szabványsorozat (ISO 9241 nemzetközi szabványsoroza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 képernyős munkavégzés főbb egészségkockázati tényező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01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Látásromlá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 előidéző tényezők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szichés (mentális) tényező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degi fáradtsá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 okozna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izikai állapotromlá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 előidéző tényezők (kéz-, kar-, gerincfájdalma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4" descr="MCj04282870000[1]"/>
          <p:cNvPicPr/>
          <p:nvPr/>
        </p:nvPicPr>
        <p:blipFill>
          <a:blip r:embed="rId2"/>
          <a:stretch/>
        </p:blipFill>
        <p:spPr>
          <a:xfrm>
            <a:off x="5708520" y="3178080"/>
            <a:ext cx="17910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lyes testtart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028" descr="green01"/>
          <p:cNvPicPr/>
          <p:nvPr/>
        </p:nvPicPr>
        <p:blipFill>
          <a:blip r:embed="rId2"/>
          <a:stretch/>
        </p:blipFill>
        <p:spPr>
          <a:xfrm>
            <a:off x="684360" y="1557360"/>
            <a:ext cx="84596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Monitor beállítása (nézővonalszög 0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°</a:t>
            </a: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 és 60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°</a:t>
            </a: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 között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1028" descr="green03"/>
          <p:cNvPicPr/>
          <p:nvPr/>
        </p:nvPicPr>
        <p:blipFill>
          <a:blip r:embed="rId2"/>
          <a:stretch/>
        </p:blipFill>
        <p:spPr>
          <a:xfrm>
            <a:off x="468360" y="1557360"/>
            <a:ext cx="83516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rendezés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Verdana"/>
              </a:rPr>
              <a:t>Képerny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Stabil kép, villódzás mentesség, instabilitás kiküszöbölé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Fényesség, kontraszt állíthatóság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Elfordítható, dönthető moni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Tükröződéstől, fényvisszaverődéstől mentes képerny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Laptop, notebook nem alkalmas a rendszeres, napi 4 órát meghaladó képernyős munkavégzés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MCj04325650000[1]"/>
          <p:cNvPicPr/>
          <p:nvPr/>
        </p:nvPicPr>
        <p:blipFill>
          <a:blip r:embed="rId2"/>
          <a:stretch/>
        </p:blipFill>
        <p:spPr>
          <a:xfrm>
            <a:off x="6659640" y="836640"/>
            <a:ext cx="16128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rendezés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Billentyűz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tól különálló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önthető a kényelmes munkatesttartás érdekéb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őtte legyen elég hely a kéz, csukló megtámasztásá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énytelen felszín a fényvisszaverődés elkerülése érdekében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gymástól könnyen megkülönböztethető és jól olvasható jelek a billentyűkön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unkaasztal, munkafelül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felelő méret a munkafeladattól függő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Flexibilis illeszkedés  a munkafeladatho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Felületük nem lehet fényvisszaver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Állásbiztosság, stabilitás, billegésmentessé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ehetőleg állítható magasságú legyen (ált. 720 m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támasz alkalma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unkaszé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bilitá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önnyen állítható magasságú ülőfelül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önthető és állítható magasságú háttám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gény esetén sarok-, kartámas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önnyű, szabad mozgást ne akadályozz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MCj04338280000[1]"/>
          <p:cNvPicPr/>
          <p:nvPr/>
        </p:nvPicPr>
        <p:blipFill>
          <a:blip r:embed="rId2"/>
          <a:stretch/>
        </p:blipFill>
        <p:spPr>
          <a:xfrm>
            <a:off x="4497480" y="1843200"/>
            <a:ext cx="39211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ábtámasz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mennyiben az ergonómiailag kedvező testtartás lábtámasz nélkül nem vehető fel (talp a padlón nyugszi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Dőlésszöge 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°</a:t>
            </a:r>
            <a:r>
              <a:rPr b="0" lang="hu-HU" sz="2600" spc="-1" strike="noStrike">
                <a:solidFill>
                  <a:srgbClr val="000000"/>
                </a:solidFill>
                <a:latin typeface="Verdana"/>
                <a:ea typeface="Arial"/>
              </a:rPr>
              <a:t> és 1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°</a:t>
            </a:r>
            <a:r>
              <a:rPr b="0" lang="hu-HU" sz="2600" spc="-1" strike="noStrike">
                <a:solidFill>
                  <a:srgbClr val="000000"/>
                </a:solidFill>
                <a:latin typeface="Verdana"/>
                <a:ea typeface="Arial"/>
              </a:rPr>
              <a:t> között legy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  <a:ea typeface="Arial"/>
              </a:rPr>
              <a:t>Lehetőleg magassága és dőlésszöge egymástól függetlenül állítható legy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  <a:ea typeface="Arial"/>
              </a:rPr>
              <a:t>Csúszásmentes kialakít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  <a:ea typeface="Arial"/>
              </a:rPr>
              <a:t>Minimális méret: 450 mm x 350 mm (szélesség x mélység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3:12Z</dcterms:created>
  <dc:creator>user</dc:creator>
  <dc:description/>
  <dc:language>en-US</dc:language>
  <cp:lastModifiedBy>psgksz</cp:lastModifiedBy>
  <dcterms:modified xsi:type="dcterms:W3CDTF">2010-09-10T07:21:42Z</dcterms:modified>
  <cp:revision>8</cp:revision>
  <dc:subject/>
  <dc:title>MUNKAVÉDELEM</dc:title>
</cp:coreProperties>
</file>