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gif" ContentType="image/gi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E4EE-9B8A-4D0F-A7ED-92C68EC01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49B7-3DE0-461F-8D22-5CD3FC58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36E6-1BB1-4468-B2D9-75732E5F1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ACE0-9FD0-4879-92EB-F5B2156D4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AA2A-5E8B-42A2-91BA-FECDC44FD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C517-76EE-4D30-9CBD-FFE3BE0E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1A09-8AA1-406C-AB3A-60A3A18A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D83E-F2C9-4F57-BF9E-180EC1D8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BAE3-10F1-4201-90D6-2BBF36F0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FB23-7449-4011-A042-FCA6C351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8381-519C-49B0-8A53-943E88FB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9D11-B169-4915-A07C-B2184DD8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1A08-E4F9-41D9-8D48-81ADFCE7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844D-E15F-4EA8-8E73-67713FAF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428A-3070-4CEA-9F7B-5F4D0B50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2C5A-D0DB-4044-9D5F-CE8816A71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16FA-BA29-4277-9444-BB09E7DD4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9D3C-ADEC-43A4-9863-BAA49992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4FD9-517A-402E-B078-E838802C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9BFD-B582-4530-B111-892E67DC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E423-BC43-419D-8538-E2F5B4B0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25A1-3F1C-4D19-A70E-FC3D9F95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2359-98F8-43BC-8C0C-39A7A51C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A5F2-6D81-45B0-A274-1703D4C6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6628-65C9-4EF6-920A-4EA7352C380A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C12A-DEBE-470A-842A-565B8D7FAC1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UNKAVÉDELEM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ÉPERNYŐS MUNKAHELYEK ERGONÓMIÁ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4" descr="MCj04326460000[1]"/>
          <p:cNvPicPr/>
          <p:nvPr/>
        </p:nvPicPr>
        <p:blipFill>
          <a:blip r:embed="rId2"/>
          <a:stretch/>
        </p:blipFill>
        <p:spPr>
          <a:xfrm>
            <a:off x="6516720" y="43657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rattartó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942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zok  a felületek, melyekre gyakran tekintünk, közel azonos távolságban legyene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zemkifáradás (akkomodáció miatt), nyakizom fokozott igénybevéte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laptámasz legyen állítható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ényelmes olvashatóságot biztosító helyzetben rögzíthető legye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8" descr="MCj04326050000[1]"/>
          <p:cNvPicPr/>
          <p:nvPr/>
        </p:nvPicPr>
        <p:blipFill>
          <a:blip r:embed="rId2"/>
          <a:stretch/>
        </p:blipFill>
        <p:spPr>
          <a:xfrm>
            <a:off x="5715000" y="3022560"/>
            <a:ext cx="177804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unkakörnyeze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Mozgásté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galább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 m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szabad terüle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biztosítása a munkahelyen történő szabad mozgáshoz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gyéb eszközök biztonságos megközelíté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7" descr="MPj04308140000[1]"/>
          <p:cNvPicPr/>
          <p:nvPr/>
        </p:nvPicPr>
        <p:blipFill>
          <a:blip r:embed="rId2"/>
          <a:stretch/>
        </p:blipFill>
        <p:spPr>
          <a:xfrm>
            <a:off x="5000760" y="1752480"/>
            <a:ext cx="32065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unkakörnyeze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Megvilágítá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ügg a természetes megvilágítástól, az irodahelyiségek méretétől, tevékenység típusátó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zínhőmérséklet (semleges vagy meleg legyen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Árnyékhatás figyelembe véte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érbeli-időbeli egyenletessé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ükröződés mentessé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6" descr="MCj04099510000[1]"/>
          <p:cNvPicPr/>
          <p:nvPr/>
        </p:nvPicPr>
        <p:blipFill>
          <a:blip r:embed="rId2"/>
          <a:stretch/>
        </p:blipFill>
        <p:spPr>
          <a:xfrm>
            <a:off x="7093080" y="260280"/>
            <a:ext cx="161928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unkakörnyeze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 u="sng">
                <a:solidFill>
                  <a:srgbClr val="000000"/>
                </a:solidFill>
                <a:uFillTx/>
                <a:latin typeface="Verdana"/>
              </a:rPr>
              <a:t>Munkahelyi zaj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koncentráció csökkenés, idegrendszeri károsodá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Határérték fokozott figyelmet igénylő  irodai munkánál 50 dB(A) hangnyomásszi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6" descr="MCj01504670000[1]"/>
          <p:cNvPicPr/>
          <p:nvPr/>
        </p:nvPicPr>
        <p:blipFill>
          <a:blip r:embed="rId2"/>
          <a:stretch/>
        </p:blipFill>
        <p:spPr>
          <a:xfrm>
            <a:off x="5722920" y="3040200"/>
            <a:ext cx="1762200" cy="16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unkakörnyeze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 u="sng">
                <a:solidFill>
                  <a:srgbClr val="000000"/>
                </a:solidFill>
                <a:uFillTx/>
                <a:latin typeface="Verdana"/>
              </a:rPr>
              <a:t>Klí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Irodában ülve végzett szellemi munka előírásai érvényese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Hideg évszakban: 20-22 C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Meleg évszakban: 21-24 C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Légsebesség: 0,1 m/s lehet maximu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MMj02889420000[1]"/>
          <p:cNvPicPr/>
          <p:nvPr/>
        </p:nvPicPr>
        <p:blipFill>
          <a:blip r:embed="rId2"/>
          <a:stretch/>
        </p:blipFill>
        <p:spPr>
          <a:xfrm>
            <a:off x="6877080" y="765000"/>
            <a:ext cx="120960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unkakörnyeze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Sugárzá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rmék gyártói nyilatkozata tartalmazz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elenlegi kutatások szerint  a látható fénysugár kivételével a monitor sugárzása  a használó egészsége és biztonsága szempontjából elhanyagolhat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Verdana"/>
              </a:rPr>
              <a:t>Szoftverergonómia</a:t>
            </a:r>
            <a:br>
              <a:rPr sz="3400"/>
            </a:br>
            <a:r>
              <a:rPr b="0" lang="hu-HU" sz="3400" spc="-1" strike="noStrike">
                <a:solidFill>
                  <a:srgbClr val="000000"/>
                </a:solidFill>
                <a:latin typeface="Verdana"/>
              </a:rPr>
              <a:t>ember-gép kapcsol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Programkialakítók feladata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ép megjelenése pl. jelek mérete, távolsága, jelélesség, kontraszt, fényerő, képstabilitás, színmegjelenítés, villogásmentessé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gram felhasználóbarát kialakítása: a felhasználó és a számítógép közötti párbeszéd hatékonysága azaz feladatra illeszthetőség, szabályozhatóság, elsajátíthatóság, hiba kijavíthatósá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inden betűt a magyar helyesírásnak megfelelő formátumban jelenítsen meg a képernyőn és nyomtatásba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ogikus adatelhelyezés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4" descr="MCj02816000000[1]"/>
          <p:cNvPicPr/>
          <p:nvPr/>
        </p:nvPicPr>
        <p:blipFill>
          <a:blip r:embed="rId2"/>
          <a:stretch/>
        </p:blipFill>
        <p:spPr>
          <a:xfrm>
            <a:off x="7164360" y="404640"/>
            <a:ext cx="14335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Verdana"/>
              </a:rPr>
              <a:t>Szoftverergonómia</a:t>
            </a:r>
            <a:br>
              <a:rPr sz="3400"/>
            </a:br>
            <a:r>
              <a:rPr b="0" lang="hu-HU" sz="3400" spc="-1" strike="noStrike">
                <a:solidFill>
                  <a:srgbClr val="000000"/>
                </a:solidFill>
                <a:latin typeface="Verdana"/>
              </a:rPr>
              <a:t>ember-gép kapcsol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eleljen meg a feladatna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számítógép-kezelő ismeret- és tapasztalatszintjéhez igazíthatósá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gyar nyelvű súgó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munkavállaló teljesítményére vonatkozó mennyiségi vagy minőségi ellenőrzési lehetőséget nem szabad igénybe venni a dolgozók tudomása nélkü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rendszerek a képernyő előtt dolgozóhoz alkalmazkodó formátumban és ütemben jelezzék ki az információk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ogszabályo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50/1999. (XI.3.) EüM rendelet a képernyő előtti munkavégzés minimális egészségügyi és biztonsági követelményeirő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3/2002. (II. 8.) SzCsm-Eüm együttes rendelet a munkahelyek munkavédelmi követelményeinek minimális szintjérő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MSZ EN 29241 szabványsorozat (ISO 9241 nemzetközi szabványsoroza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 képernyős munkavégzés főbb egészségkockázati tényező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5013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Látásromlá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 előidéző tényezők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szichés (mentális) tényezők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idegi fáradtsá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 okoznak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Fizikai állapotromlá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 előidéző tényezők (kéz-, kar-, gerincfájdalmak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Picture 4" descr="MCj04282870000[1]"/>
          <p:cNvPicPr/>
          <p:nvPr/>
        </p:nvPicPr>
        <p:blipFill>
          <a:blip r:embed="rId2"/>
          <a:stretch/>
        </p:blipFill>
        <p:spPr>
          <a:xfrm>
            <a:off x="5708520" y="3178080"/>
            <a:ext cx="17910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elyes testtartá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1028" descr="green01"/>
          <p:cNvPicPr/>
          <p:nvPr/>
        </p:nvPicPr>
        <p:blipFill>
          <a:blip r:embed="rId2"/>
          <a:stretch/>
        </p:blipFill>
        <p:spPr>
          <a:xfrm>
            <a:off x="684360" y="1557360"/>
            <a:ext cx="845964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Verdana"/>
              </a:rPr>
              <a:t>Monitor beállítása (nézővonalszög 0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°</a:t>
            </a:r>
            <a:r>
              <a:rPr b="0" lang="hu-HU" sz="3400" spc="-1" strike="noStrike">
                <a:solidFill>
                  <a:srgbClr val="000000"/>
                </a:solidFill>
                <a:latin typeface="Verdana"/>
              </a:rPr>
              <a:t> és 60 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°</a:t>
            </a:r>
            <a:r>
              <a:rPr b="0" lang="hu-HU" sz="3400" spc="-1" strike="noStrike">
                <a:solidFill>
                  <a:srgbClr val="000000"/>
                </a:solidFill>
                <a:latin typeface="Verdana"/>
              </a:rPr>
              <a:t> között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1028" descr="green03"/>
          <p:cNvPicPr/>
          <p:nvPr/>
        </p:nvPicPr>
        <p:blipFill>
          <a:blip r:embed="rId2"/>
          <a:stretch/>
        </p:blipFill>
        <p:spPr>
          <a:xfrm>
            <a:off x="468360" y="1557360"/>
            <a:ext cx="835164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erendezése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 u="sng">
                <a:solidFill>
                  <a:srgbClr val="000000"/>
                </a:solidFill>
                <a:uFillTx/>
                <a:latin typeface="Verdana"/>
              </a:rPr>
              <a:t>Képernyő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Stabil kép, villódzás mentesség, instabilitás kiküszöbölé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Fényesség, kontraszt állíthatóság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Elfordítható, dönthető moni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Tükröződéstől, fényvisszaverődéstől mentes képernyő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Laptop, notebook nem alkalmas a rendszeres, napi 4 órát meghaladó képernyős munkavégzés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MCj04325650000[1]"/>
          <p:cNvPicPr/>
          <p:nvPr/>
        </p:nvPicPr>
        <p:blipFill>
          <a:blip r:embed="rId2"/>
          <a:stretch/>
        </p:blipFill>
        <p:spPr>
          <a:xfrm>
            <a:off x="6659640" y="836640"/>
            <a:ext cx="16128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erendezése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Billentyűze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itortól különálló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önthető a kényelmes munkatesttartás érdekéb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őtte legyen elég hely a kéz, csukló megtámasztásá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énytelen felszín a fényvisszaverődés elkerülése érdekében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gymástól könnyen megkülönböztethető és jól olvasható jelek a billentyűkön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unkaasztal, munkafelüle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Megfelelő méret a munkafeladattól függő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Flexibilis illeszkedés  a munkafeladatho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Felületük nem lehet fényvisszaverő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Állásbiztosság, stabilitás, billegésmentessé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Lehetőleg állítható magasságú legyen (ált. 720 mm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Lábtámasz alkalmazá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unkaszé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abilitá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önnyen állítható magasságú ülőfelül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önthető és állítható magasságú háttáml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gény esetén sarok-, kartámasz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önnyű, szabad mozgást ne akadályozz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4" descr="MCj04338280000[1]"/>
          <p:cNvPicPr/>
          <p:nvPr/>
        </p:nvPicPr>
        <p:blipFill>
          <a:blip r:embed="rId2"/>
          <a:stretch/>
        </p:blipFill>
        <p:spPr>
          <a:xfrm>
            <a:off x="4497480" y="1843200"/>
            <a:ext cx="39211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ábtámasz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Amennyiben az ergonómiailag kedvező testtartás lábtámasz nélkül nem vehető fel (talp a padlón nyugszik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Dőlésszöge 5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°</a:t>
            </a:r>
            <a:r>
              <a:rPr b="0" lang="hu-HU" sz="2600" spc="-1" strike="noStrike">
                <a:solidFill>
                  <a:srgbClr val="000000"/>
                </a:solidFill>
                <a:latin typeface="Verdana"/>
                <a:ea typeface="Arial"/>
              </a:rPr>
              <a:t> és 15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°</a:t>
            </a:r>
            <a:r>
              <a:rPr b="0" lang="hu-HU" sz="2600" spc="-1" strike="noStrike">
                <a:solidFill>
                  <a:srgbClr val="000000"/>
                </a:solidFill>
                <a:latin typeface="Verdana"/>
                <a:ea typeface="Arial"/>
              </a:rPr>
              <a:t> között legy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  <a:ea typeface="Arial"/>
              </a:rPr>
              <a:t>Lehetőleg magassága és dőlésszöge egymástól függetlenül állítható legy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  <a:ea typeface="Arial"/>
              </a:rPr>
              <a:t>Csúszásmentes kialakítá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  <a:ea typeface="Arial"/>
              </a:rPr>
              <a:t>Minimális méret: 450 mm x 350 mm (szélesség x mélység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0:23:12Z</dcterms:created>
  <dc:creator>user</dc:creator>
  <dc:description/>
  <dc:language>en-US</dc:language>
  <cp:lastModifiedBy>psgksz</cp:lastModifiedBy>
  <dcterms:modified xsi:type="dcterms:W3CDTF">2010-09-10T07:21:42Z</dcterms:modified>
  <cp:revision>8</cp:revision>
  <dc:subject/>
  <dc:title>MUNKAVÉDELEM</dc:title>
</cp:coreProperties>
</file>